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25C5-01BB-4C2D-956B-7DEB8D5B3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itage is a tradition- passed down in the 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064C-160D-488F-9D19-C2B771EC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41D-1515-4E5D-87CD-A42A2C00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A7F-9273-471D-B840-E0CD8C98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A50-D9CC-4D56-8AAE-D54485F6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805-813B-42B7-9273-D822A1EF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458-0AAD-4F57-A1AB-53E21522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036-7937-4CCD-9FB1-D7F4FBF3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F24-F3D8-4EEB-86A8-053A0BA3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F75-F8C6-4922-8EE3-48A85612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04F-C3A3-4641-8CF8-2505598A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4B9-5950-461C-A74E-6B97CB06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CD5-79AB-4251-817D-0253A896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D41-17CB-42A9-97D2-3A813BD1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D0FF-F547-48E6-AD7E-A3A404712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Cultures and Tra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farm1.static.flickr.com/3/4418361_716337298a.jpg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wm.edu/as/internationalrelations/images/news/rob_camel.jpg"/>
          <p:cNvPicPr/>
          <p:nvPr/>
        </p:nvPicPr>
        <p:blipFill>
          <a:blip r:embed="rId1"/>
          <a:stretch/>
        </p:blipFill>
        <p:spPr>
          <a:xfrm>
            <a:off x="2133720" y="609480"/>
            <a:ext cx="46479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people alike and differ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slcgov.com/Arts/livingtraditions/2007/images/lac_viet_band.jpg"/>
          <p:cNvPicPr/>
          <p:nvPr/>
        </p:nvPicPr>
        <p:blipFill>
          <a:blip r:embed="rId1"/>
          <a:stretch/>
        </p:blipFill>
        <p:spPr>
          <a:xfrm>
            <a:off x="1447920" y="1143000"/>
            <a:ext cx="5964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crazycrow.com/images/mens-grass-dance-18-650x433.jpg"/>
          <p:cNvPicPr/>
          <p:nvPr/>
        </p:nvPicPr>
        <p:blipFill>
          <a:blip r:embed="rId1"/>
          <a:stretch/>
        </p:blipFill>
        <p:spPr>
          <a:xfrm>
            <a:off x="685800" y="609480"/>
            <a:ext cx="7664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jollyks.com/images/image/homepage.jpg"/>
          <p:cNvPicPr/>
          <p:nvPr/>
        </p:nvPicPr>
        <p:blipFill>
          <a:blip r:embed="rId1"/>
          <a:stretch/>
        </p:blipFill>
        <p:spPr>
          <a:xfrm>
            <a:off x="1066680" y="762120"/>
            <a:ext cx="6855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conservativesforamerica.com/wp-content/uploads/3c8b8__fourth-of-july-parade-sitters.jpg"/>
          <p:cNvPicPr/>
          <p:nvPr/>
        </p:nvPicPr>
        <p:blipFill>
          <a:blip r:embed="rId1"/>
          <a:stretch/>
        </p:blipFill>
        <p:spPr>
          <a:xfrm>
            <a:off x="1295280" y="9907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learn about your culture and herit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know about your culture and herit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your family have trad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ttp://blog.vcu.edu/arts/Montessori-Students.jpg"/>
          <p:cNvPicPr/>
          <p:nvPr/>
        </p:nvPicPr>
        <p:blipFill>
          <a:blip r:embed="rId1"/>
          <a:stretch/>
        </p:blipFill>
        <p:spPr>
          <a:xfrm>
            <a:off x="1676520" y="1066680"/>
            <a:ext cx="59436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hinese-new-year-dragon-dance"/>
          <p:cNvPicPr/>
          <p:nvPr/>
        </p:nvPicPr>
        <p:blipFill>
          <a:blip r:embed="rId1"/>
          <a:stretch/>
        </p:blipFill>
        <p:spPr>
          <a:xfrm>
            <a:off x="609480" y="457200"/>
            <a:ext cx="74678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xaxor.com/images/Various-people-and-cultures-around-the-world-part2-/Various-people-and-cultures-around-the-world-part2-11.jpg"/>
          <p:cNvPicPr/>
          <p:nvPr/>
        </p:nvPicPr>
        <p:blipFill>
          <a:blip r:embed="rId1"/>
          <a:stretch/>
        </p:blipFill>
        <p:spPr>
          <a:xfrm>
            <a:off x="304920" y="304920"/>
            <a:ext cx="86644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http://artsyspot.com/img01/marriage-tradition-around-the-world01.jpg"/>
          <p:cNvPicPr/>
          <p:nvPr/>
        </p:nvPicPr>
        <p:blipFill>
          <a:blip r:embed="rId1"/>
          <a:stretch/>
        </p:blipFill>
        <p:spPr>
          <a:xfrm>
            <a:off x="838080" y="838080"/>
            <a:ext cx="7639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e word culture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heritage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http://www.jerusalembaskets.com/uploads/Hanukkah_theme_5.jpg"/>
          <p:cNvPicPr/>
          <p:nvPr/>
        </p:nvPicPr>
        <p:blipFill>
          <a:blip r:embed="rId1"/>
          <a:stretch/>
        </p:blipFill>
        <p:spPr>
          <a:xfrm>
            <a:off x="1523880" y="60948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3" descr="http://www.worldofchristmas.net/gifs/christmas-tree.jpg"/>
          <p:cNvPicPr/>
          <p:nvPr/>
        </p:nvPicPr>
        <p:blipFill>
          <a:blip r:embed="rId1"/>
          <a:stretch/>
        </p:blipFill>
        <p:spPr>
          <a:xfrm>
            <a:off x="2057400" y="533520"/>
            <a:ext cx="52578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9" descr="http://imgs.sfgate.com/c/pictures/2009/04/23/ns-family30_folk_0500051841.jpg"/>
          <p:cNvPicPr/>
          <p:nvPr/>
        </p:nvPicPr>
        <p:blipFill>
          <a:blip r:embed="rId1"/>
          <a:stretch/>
        </p:blipFill>
        <p:spPr>
          <a:xfrm>
            <a:off x="304920" y="457200"/>
            <a:ext cx="847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01:59Z</dcterms:created>
  <dc:creator>127paynem</dc:creator>
  <dc:description/>
  <dc:language>en-US</dc:language>
  <cp:lastModifiedBy>127paynem</cp:lastModifiedBy>
  <dcterms:modified xsi:type="dcterms:W3CDTF">2011-11-02T14:18:17Z</dcterms:modified>
  <cp:revision>3</cp:revision>
  <dc:subject/>
  <dc:title>Family Cultures and Traditions</dc:title>
</cp:coreProperties>
</file>